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480-0D16-46B7-AEB6-7C5E94EF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5A4-B42D-4F15-B736-2A888CA0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928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D8D-CC9D-4E8B-A5EC-30EC059B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460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152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460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152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9DA-8016-4659-ACC1-1D392A10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1DA5-180E-4F67-9951-412E516A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301-B86B-42D3-9FF9-517C32D2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1BFF-FCC1-4585-9428-59F70764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9BC6-184F-41EE-A005-8A67558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410-9EB8-4BC9-8F03-D897E96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2048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C41B-B4AF-4687-B1BA-EEBDBB5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1B00-7991-4DA7-84C7-8FE7115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CF1-3B46-416F-8A9E-F9EDBD9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928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6C8-EF96-4C0C-BDAC-D323CDF5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4746-4290-466B-8A05-028961E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91FE-A20C-4E26-8CB8-CDEE708B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928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635C-4990-4C71-8B5E-4FC58F17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460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1520" y="16650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460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1520" y="38134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294-AD95-40D0-BC84-C872ADD0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C52-A449-4E87-94E6-DABFBD2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A3F-3FE6-4E77-9245-DCEFDCA1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AEE-154F-4777-BB9D-589EFC1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48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3F6-5F97-4774-9995-78F7FB8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CC3-92F9-429C-A0B0-1D6858F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9280" y="38134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6AE-4C2E-41E6-9CC5-D0AB022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16650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BA4-0C97-4F51-9295-86A4B92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6160" cy="6936840"/>
            <a:chOff x="-38160" y="-12600"/>
            <a:chExt cx="9236160" cy="6936840"/>
          </a:xfrm>
        </p:grpSpPr>
        <p:sp>
          <p:nvSpPr>
            <p:cNvPr id="1" name=""/>
            <p:cNvSpPr/>
            <p:nvPr/>
          </p:nvSpPr>
          <p:spPr>
            <a:xfrm>
              <a:off x="8744040" y="-12600"/>
              <a:ext cx="452520" cy="6928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12600"/>
              <a:ext cx="453960" cy="693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1520"/>
              <a:ext cx="9201240" cy="453960"/>
            </a:xfrm>
            <a:custGeom>
              <a:avLst/>
              <a:gdLst>
                <a:gd name="textAreaLeft" fmla="*/ 1002960 w 9201240"/>
                <a:gd name="textAreaRight" fmla="*/ 8198280 w 9201240"/>
                <a:gd name="textAreaTop" fmla="*/ 49320 h 453960"/>
                <a:gd name="textAreaBottom" fmla="*/ 40464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7040"/>
              <a:ext cx="9236160" cy="457200"/>
            </a:xfrm>
            <a:custGeom>
              <a:avLst/>
              <a:gdLst>
                <a:gd name="textAreaLeft" fmla="*/ 1009440 w 9236160"/>
                <a:gd name="textAreaRight" fmla="*/ 8226720 w 923616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79720"/>
              <a:ext cx="8620200" cy="633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048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040" y="16650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440" y="616536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3720" y="6165360"/>
            <a:ext cx="28926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16536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534C7-2670-4A58-B462-FA705B65C5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6160" cy="6936840"/>
            <a:chOff x="-38160" y="-12600"/>
            <a:chExt cx="9236160" cy="6936840"/>
          </a:xfrm>
        </p:grpSpPr>
        <p:sp>
          <p:nvSpPr>
            <p:cNvPr id="48" name=""/>
            <p:cNvSpPr/>
            <p:nvPr/>
          </p:nvSpPr>
          <p:spPr>
            <a:xfrm>
              <a:off x="8744040" y="-12600"/>
              <a:ext cx="452520" cy="6928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12600"/>
              <a:ext cx="453960" cy="693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1520"/>
              <a:ext cx="9201240" cy="453960"/>
            </a:xfrm>
            <a:custGeom>
              <a:avLst/>
              <a:gdLst>
                <a:gd name="textAreaLeft" fmla="*/ 1002960 w 9201240"/>
                <a:gd name="textAreaRight" fmla="*/ 8198280 w 9201240"/>
                <a:gd name="textAreaTop" fmla="*/ 49320 h 453960"/>
                <a:gd name="textAreaBottom" fmla="*/ 40464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7040"/>
              <a:ext cx="9236160" cy="457200"/>
            </a:xfrm>
            <a:custGeom>
              <a:avLst/>
              <a:gdLst>
                <a:gd name="textAreaLeft" fmla="*/ 1009440 w 9236160"/>
                <a:gd name="textAreaRight" fmla="*/ 8226720 w 923616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79720"/>
              <a:ext cx="8620200" cy="633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6826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040" y="615456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7040" y="6154560"/>
            <a:ext cx="2892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6040" y="615456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920B52-9BE1-42FE-80DF-B8A360C836F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7998120" cy="371520"/>
            <a:chOff x="609480" y="3324240"/>
            <a:chExt cx="7998120" cy="37152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7998120" cy="2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0800" cy="27468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37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37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372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3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3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3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технолог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пецкого опыта при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ологического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итания школьников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редствами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имина Оксана Анатолье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зительного искусст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У СОШ №1 села Казак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лецкого района Липецкой обла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пирант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учный руководитель д.п.н., професс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вчинникова Александра Жоре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98400" y="549000"/>
            <a:ext cx="77724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ологическое воспита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роцесс целенаправленного развития способности личности к полноценному восприятию и пониманию прекрасного и рационального в природе, которое, наряду с формированием у учащихся научных знаний о  взаимодействии человека, общества и природы, норм и правил в отношении к природе и самому себе, умений и навыков по её изучению и охране, станет основой общей экологической культуры человека, как части его духовной культур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Эколого-художественное воспитани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редствами изобразительного искусства и музыки формировать экологическую культуру  как основу общей культуры человека, выражающей  характер и новый качественный уровень отношений между обществом и приро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зовые учебные программы для общеобразовательной школ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Э.А. Абдулин,  Т.А. Бейдер,  Т.Е. Вендрова и др. под руководством Д.Б. Кабалевского «Музыка. 1 класс четырёхлетней начальной школы. 1-3 классы трёхлетней начальной школы. 5-8 классы»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 В.С. Кузин,  Н.Н. Ростовцев,  Т.Я. Шпикалова и др. «Изобразительное искусство. 1-9 классы» 1994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Б.М. Неменский,  В.Г. Горяев,  Н.А. Горяева  «Изобразительное искусство и художественный труд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Эколого-художественное воспитани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484280"/>
          <a:ext cx="7772400" cy="5068440"/>
        </p:xfrm>
        <a:graphic>
          <a:graphicData uri="http://schemas.openxmlformats.org/drawingml/2006/table">
            <a:tbl>
              <a:tblPr/>
              <a:tblGrid>
                <a:gridCol w="4109760"/>
                <a:gridCol w="3662640"/>
              </a:tblGrid>
              <a:tr h="31212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одимые понятия эколог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gridSpan="2">
                  <a:txBody>
                    <a:bodyPr lIns="90000" rIns="90000" tIns="73440" bIns="468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 чём говорит музыка» (7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а – источник вдохнов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ая и неживая приро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Развитие музыки» (10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а – герой музыкальных произведений.  Изменения в природе – развитие в музы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моего народа» (16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ежду музыкой моего народа и музыкой других народов мира нет непереходимых границ» (18 ча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– член биосистемы. Годовые ритмы. Альтруиз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е и косвенное воздействие человека на природу. Климат. Адаптац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и биосфе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 и изобразительное искусство» (18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овые изменения в природ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остранение морей и океанов. Комфортная и агрессивная сред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.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 чём сила музыки?» (18 ча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ведники и заказни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зыкальный образ» (16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банизация. Промышлен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фортная и агрессивная сре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кла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Лёгкая» и «серьёзная» музыка (7 час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грация насел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ческий прогрес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82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стантин Александрович Москаленк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4653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работы: объединённый ур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 работы: 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473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5329080" cy="379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000680" cy="28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обенности объединённого уро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65360"/>
            <a:ext cx="8424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ь познавательного процесса с первой мину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ы урока  взаимосвязаны и сливаются в единый процес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ая работа  пронизывает все этапы ур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ыми методами обучения становятся комментированная работа н творческие работы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учителя сливается с деятельностью ученика, то есть возникает субъект-субъектное взаимодей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ремя используется с максимальной продуктив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ется гибкая структура ур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ется возможность широко применять комплексное усвоение материал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34920" y="476280"/>
            <a:ext cx="482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стантин Александрович Москаленк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4653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ика выставления поурочного бал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473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217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2843280" y="0"/>
            <a:ext cx="3097080" cy="1685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211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012000" y="2276640"/>
            <a:ext cx="3132000" cy="221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012000" y="4597560"/>
            <a:ext cx="3132000" cy="2260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916360" y="4595760"/>
            <a:ext cx="3097080" cy="2262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0" y="2852640"/>
            <a:ext cx="2914560" cy="4005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492360" y="1700280"/>
            <a:ext cx="209556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39640" y="1628640"/>
            <a:ext cx="777744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3:53:15Z</dcterms:created>
  <dc:creator>SamLab.ws</dc:creator>
  <dc:description/>
  <dc:language>en-US</dc:language>
  <cp:lastModifiedBy>SamLab.ws</cp:lastModifiedBy>
  <dcterms:modified xsi:type="dcterms:W3CDTF">2009-02-25T04:56:25Z</dcterms:modified>
  <cp:revision>2</cp:revision>
  <dc:subject/>
  <dc:title>Использование технологии  липецкого опыта при организации  экологического воспитания школьников  средствами искусства.</dc:title>
</cp:coreProperties>
</file>